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B1D0-9CDC-48CF-BBF4-D674F302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253-A762-4432-93E2-8259F34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204F4-59BE-4519-A47E-AF51873E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3503A-8A8A-4999-987C-94719FFB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39F49-A532-4B33-AD2F-07FE90F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6E96-68A3-4891-BEF1-99F0925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1EC6E-0A55-4857-9F87-72E16DF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F2F63-7239-45B7-B5D7-A36CA70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62BC-5745-47FE-9C7A-733F979E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3D024-393B-4F1B-A158-9B41D983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CFBE5-3E2A-42FA-9A02-FA38ABE5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93C-E7FD-474D-B262-DBF9888B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602-0CE2-446E-B4A7-2FE8F5D4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96C16-96E8-4784-B34E-B09D49A8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0EEE3-CC03-42CF-8AC0-06A5A67B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BED0-2191-41FF-87B3-468FD05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4E4E9-102B-4371-A576-00C27D7A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FC11-6C3A-419E-9D1B-58483B9E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D1A8F-FEA0-4001-903E-C72771B6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0F668-C5CE-4B67-986A-D38ABA40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576-8F12-4060-965D-37BFF93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0875A-3164-4E04-8780-08367FA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9D1E-6422-446B-B252-26A2909E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A0F16-63B7-42B9-BA33-E05D060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E1770-F870-4114-B210-CB1F31C0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2462B-6D06-4368-93A0-B71B42D5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5701-575B-496E-A54B-D9D6699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E766-333C-4D1B-9B89-A35CD53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722D-14B2-4AD0-86A4-FB61269A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FF60-F4B4-47A4-8696-334078AA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30B0-56E4-41F4-9AF6-9F06476C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72A-656B-4EC3-BB23-A98BAD1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86FE-6574-478D-AEA6-92E1C37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83EF-4E36-4B4B-ACBF-9489E7B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F145-5D2F-4BD8-9027-D3BB19D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9FB8-2473-4925-83EF-735A786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2196-F230-4D1D-B59A-0DB15E4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ECDB-0F05-46D9-9C4F-10476A07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F8B8-31B6-4167-BB60-E30FCAD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942B-62F7-475C-88E1-E6A461CB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DAE5-0407-4CBB-8211-EC22395B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69D7-C215-49E9-981E-FFA21A1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321-1071-40D6-96C1-626E9CE7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D26A-3B3E-4983-9267-779A950C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1D1AA-8D58-484E-A3C8-C845A7E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806E-42D5-40CC-BA83-F01BE3C1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B8C1-F11F-4355-8300-CCBA674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B1C6-7BA7-401F-BD30-527086D9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E4DD-A7DD-43FA-91CC-7ADCEF8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B3B0-F1BD-49D7-A91D-021862EE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989D-8402-496A-B6C5-2DDF546C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FBB8-BD06-456B-9FF0-8A0021D2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24F2C-D735-4211-9C5C-D50A82C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32E-DD35-468D-BC1D-C80CB64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446B6-3C0C-4327-92C6-BB6A8A47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974F2-DABE-48F2-B7A1-503A8EB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25263-5081-40B8-868A-65E2082A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0EF87D-B72B-49D8-B429-14EFFF6E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9C586-9F3B-4883-864D-EE8CEDA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68EEA-491F-4012-BD45-8030639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B6D78-1898-4F03-BD19-FBE27D8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A62D9-D55E-449B-87C2-4158019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CAB64-9288-4811-B752-958291C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0B190-1F1C-4B4A-BD2E-09A2A762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B12-C08A-40E3-95F6-98608E1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D2CBD-6230-45AB-9B88-C4B787A5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447E-D2D4-4B03-AD79-143FD0AA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660B-2BF0-465C-97A6-1E59C2E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5C17-6738-41C3-A62D-996CBA2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02EC-C351-42B5-9395-ED47DB87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1D9A-AD3C-46E5-8767-4CF56B4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93163-8C7A-421B-8DB6-AB0DB5C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829B-99A8-410A-A336-D795B004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D89D-53EE-4ADE-8136-09B0C25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D4E47-83D2-42F4-9506-83284FF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71C-FF9E-4CCE-A879-5CED8E7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DE34-5874-492B-BC7E-2DA8FE90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6BFF-4312-4531-AAFF-F8E32985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DAA1-E8AA-4AE2-8074-820EE590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7D69-F8BB-401D-9DF0-F3F03B5E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6532-CE70-4863-BA52-51EDD8C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E2036-E4A6-4529-B88B-6DFB479D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D1500-2936-45D6-9E68-9CF22459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7B3FB-2C00-401E-92CB-B02194F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2843-463C-48DF-B42C-007FA9B7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BC21-CB1B-42F0-97EF-90D96751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0D1-6B7E-4075-9CB8-ECA2804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8AAD0-9CCC-4166-AFBE-461010D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6E73-460E-4A91-943A-17C19A0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3690D-23C2-4A53-AD63-46C8092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8587-7EC0-4014-966F-E6CD8CC2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65AB-7976-4FC7-A61E-C0A84D4E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39051-23CF-4567-BF85-B9EC7115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2E59A-FB21-4C74-9896-35D4B2A2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7A8D9-88CE-4502-A66B-9B40480B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18C1A-8CAC-4E2D-B1F8-6F984DA3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C68F2-3EB1-44D8-8A49-81D8351C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CF1-82D0-43F8-891E-863498F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F60E-5700-4D13-ADB2-ED41A2E5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27805-4D1B-4280-9A2F-F17C8F2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9138E-B340-4028-B118-0BEF7B3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20A44-E519-4BA4-A1F2-014D8C4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602AF-8ACE-4B3F-AEBC-86448DAF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7EBC-828E-4354-9A5A-5214E326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D90F6-BFC1-478F-8839-D22FBD47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E0B3B-C7E3-4A1C-BF44-21FBA571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7A0D-4CF1-4C64-A255-1F66ABD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D05E-26C3-423F-A971-FA05B343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BBE-BF9D-43AE-B5BA-4E2C00FAD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9BF-59B3-45C4-A82C-F5E267C88C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4066-BAB4-42FC-BC57-EEBA0379D8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7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2CB-FF53-425C-9E9D-61B522DC12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4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E0F-177E-444B-894A-7220EC2013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A96-860E-4B06-A656-E2F193D7C76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048B-B5D8-450A-86CC-7D085FDDAA7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8FB6-DBB8-427A-9751-1245A7ADE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4C7-9AB9-42A8-BC3B-B1DD09A28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as Comida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Kitzia Dia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209680" cy="14702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2514600" cy="16840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48120" y="39625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380988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toc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24480" y="3809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6728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043000" cy="183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6"/>
          <a:stretch/>
        </p:blipFill>
        <p:spPr>
          <a:xfrm>
            <a:off x="2819520" y="43434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7"/>
          <a:stretch/>
        </p:blipFill>
        <p:spPr>
          <a:xfrm>
            <a:off x="6172200" y="4191120"/>
            <a:ext cx="136836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Almuerz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" y="3429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ocadillo de mantequilla de manti y ja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343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o de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zana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288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624852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5"/>
          <a:stretch/>
        </p:blipFill>
        <p:spPr>
          <a:xfrm>
            <a:off x="4191120" y="4191120"/>
            <a:ext cx="2447640" cy="1866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ra La Cen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533520" y="3505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s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3"/>
          <a:stretch/>
        </p:blipFill>
        <p:spPr>
          <a:xfrm>
            <a:off x="2895480" y="1828800"/>
            <a:ext cx="2838600" cy="160956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3200400" y="3429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uré de p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4"/>
          <a:stretch/>
        </p:blipFill>
        <p:spPr>
          <a:xfrm>
            <a:off x="6095880" y="18288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678168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600200" y="396252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205740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055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s macar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6"/>
          <a:stretch/>
        </p:blipFill>
        <p:spPr>
          <a:xfrm>
            <a:off x="4724280" y="4241880"/>
            <a:ext cx="274320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68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68" fill="hold"/>
                                        <p:tgtEl>
                                          <p:spTgt spid="7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68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68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ost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el postre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52280" y="3657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stel de vain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666880" y="1981080"/>
            <a:ext cx="1752840" cy="17528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514600" y="3733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 de vain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334120" y="1981080"/>
            <a:ext cx="2286000" cy="17128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1814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dín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4"/>
          <a:stretch/>
        </p:blipFill>
        <p:spPr>
          <a:xfrm>
            <a:off x="1066680" y="4038480"/>
            <a:ext cx="2124360" cy="21528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1066680" y="6172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choco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057400" cy="19526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52578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ba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Meriend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la merienda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057400" cy="1347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572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a de gran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1604880" cy="16048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27672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6248520" y="3886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1904760" cy="174312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fritas de pat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3124080" y="4038480"/>
            <a:ext cx="2210040" cy="15652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3048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galletas sal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15:45Z</dcterms:created>
  <dc:creator>diazkit</dc:creator>
  <dc:description/>
  <dc:language>en-US</dc:language>
  <cp:lastModifiedBy>diazkit</cp:lastModifiedBy>
  <dcterms:modified xsi:type="dcterms:W3CDTF">2011-04-14T18:32:31Z</dcterms:modified>
  <cp:revision>4</cp:revision>
  <dc:subject/>
  <dc:title>Las Comidas</dc:title>
</cp:coreProperties>
</file>